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48960" cy="124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564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0" y="4680"/>
            <a:ext cx="166514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1798280" y="-11796840"/>
            <a:ext cx="11766600" cy="12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14219280" y="-11796840"/>
            <a:ext cx="16594200" cy="124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80" y="4680"/>
            <a:ext cx="11757240" cy="124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2FDA-164E-463F-AA32-3423CBAE6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62E2-CA97-4D24-9CBC-4BB979D01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871F-FDBE-4743-AFA5-492C7F77A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88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292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88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292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70C7-FDED-4923-83FE-4F4D10BCE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7DD3-D8CC-48F9-BE87-48D4B2DBC0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7E48-A956-4641-9FA4-DDFE324CA8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93E3-BA28-41D7-A104-4434623EDC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DCC0-430A-4C0B-8D96-18FE5C6625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7B18-3942-45E9-9F53-89D6DD36BE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3000"/>
            <a:ext cx="8186760" cy="70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80FD-ECDD-4EF6-A18F-545AE1BEF3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AFC4-4040-49EE-86B3-3DC4A14080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1289-1CAD-46D4-90D6-A01E0266C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A5C6-137B-4356-A6E8-27F9954BC1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C05D-907F-42FC-AE62-38AF9C8E87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3FC0-F2D5-495A-9BE4-A5D3C6AAD9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5CEA-492C-4287-9EB7-469581298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488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292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488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292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217B-6AB2-446E-BAFF-E34203D789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515-F7D8-4163-A43C-C7CA792A99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13B-48BE-4D0A-AEF1-D599D816AD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739-2238-49C5-9BAB-080B51D8D9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5E4-891C-4034-A4D6-A2D366BD80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131-B89D-4BFC-B523-2B1994FB7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37C5-7C62-4D9D-B448-264C2F008B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63000"/>
            <a:ext cx="8186760" cy="70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A0D-2F3B-40F9-9EC2-3DABF869C3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4B0-9A0F-4651-9C78-3393391BED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747-58FA-4457-8537-948401C304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4BC-95BF-4126-AD03-23CC77450B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609-C39C-4A3C-A882-D2BAEB1CE1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7E5-6A2D-4A0F-9C03-8E707E404B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488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92920" y="160020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488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92920" y="3956040"/>
            <a:ext cx="2635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DCC-E252-45FA-BC12-85C791633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644D-31E0-4F81-9138-99A607F6B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821F-39E7-4E1C-916F-A280E9C36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3000"/>
            <a:ext cx="8186760" cy="70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FADB-FA32-44B8-ADDF-B5887C251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155F-7C08-4D85-8FDA-8D8409A7F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395604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89D6-1A00-4F44-B3FA-596B50343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3994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186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ECD1-1C60-4310-A6BC-26C321107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09088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F94EB-7A21-493B-A1AF-754D73A2A42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1867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86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3480"/>
            <a:ext cx="1897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348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8543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8DF33E-7D83-41AA-8116-F8A63AD6BBF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058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246720"/>
            <a:ext cx="21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7320" y="6246720"/>
            <a:ext cx="288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06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5AB618-B3C5-4DD1-A9F5-C0A79275A6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planosociobio@mda.gov.b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4200" y="2004840"/>
            <a:ext cx="89298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âmara Nacional da Sociobiodiversid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Meio Amb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Desenvolvimento Agr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stério do Desenvolvimento Social e Combate à F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nhia Nacional de Abastecimento - CO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268280"/>
            <a:ext cx="368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bjetivo Ger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349360"/>
            <a:ext cx="82040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senvolver ações integradas para a promoção e fortalecimento das cadeias de produtos da sociobiodivers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3336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696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67960"/>
                <a:tab algn="l" pos="9416880"/>
                <a:tab algn="l" pos="9866160"/>
                <a:tab algn="l" pos="10321920"/>
                <a:tab algn="l" pos="10764720"/>
                <a:tab algn="l" pos="10766520"/>
                <a:tab algn="l" pos="10767960"/>
                <a:tab algn="l" pos="1076976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1728720"/>
            <a:ext cx="77659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7120" y="1428840"/>
            <a:ext cx="846000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9880" indent="-2998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est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tribuições operacionais/delibe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upo de Coordenação do Plano Nacion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DA, MDS, MMA e CON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tribuições consul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âmara Nacional da Sociobiodivers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GTs castanha do Brasil e Babaçu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9880" indent="-29988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âmaras estaduais, GTs, APLs, ou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1413000"/>
            <a:ext cx="878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Câmara Nacional da Sociobiodiversid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2419200"/>
            <a:ext cx="85071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brangênci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arát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Multisseto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mposição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titulares/suplentes e convi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 –  Representantes Governo Fed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MA, MDA, MDS, CONAB, ANVISA, MAPA e MC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I – Representantes Governos Estaduais que estão participando e os que  manifestarem interesse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M, PA, AP, MT, RO, AC, TO, PI, CE, 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52440" y="1697040"/>
            <a:ext cx="82915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II - Representante Pesquis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brapa Nacion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V - Representantes Setor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BIA, ABIHPEC, ABRAS, Sindióle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 - Representantes Rede de Serviços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ASA, ASBRAER, SEBRAE, BB, BNDES e BN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 - Representantes Organizações Agricultura Familiar,    ambiental e indíg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NS, CONTAG, GTA, APIB, Rede Cerrado, ASA, Rede Ecovida, MIQCB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1413000"/>
            <a:ext cx="4043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tribuiç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205000"/>
            <a:ext cx="8642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 – Formulação, proposição e revisão de atividades referente ao PNPSB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I – Assessoramento, monitoramento e avaliação da execução e do andamento do Plano Nacional  e Estaduais;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II – Definição de prioridades na implementação do Plan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V – Definição de critérios e acompanhamento na criação das Câmaras Estaduais e GTs  (sugestão Hétel – na castanh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4200" y="1357200"/>
            <a:ext cx="735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  <a:ea typeface="Arial"/>
              </a:rPr>
              <a:t>Desafios da Câmara Nacion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5840" y="2071800"/>
            <a:ext cx="88581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Integra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Arial"/>
              </a:rPr>
              <a:t>ção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 das institui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Arial"/>
              </a:rPr>
              <a:t>çõ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  e de ações na implantação do PNPSB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Formulação e atuação em projet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Arial"/>
              </a:rPr>
              <a:t>conju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Arial"/>
              </a:rPr>
              <a:t>Identificação de empresas com potencial para parce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Arial"/>
              </a:rPr>
              <a:t>Articulação e inserção das demandas  das Câmaras e GTs  estadu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Articulação com a Câmara Nacional e Coordenação do Plano Nacion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5241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86400" y="4197240"/>
            <a:ext cx="285480" cy="18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43960" y="4786200"/>
            <a:ext cx="2142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571760"/>
            <a:ext cx="700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  <a:ea typeface="Arial"/>
              </a:rPr>
              <a:t>Estruturas de Gestão Estadua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-800280"/>
            <a:ext cx="81946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8960" y="1619280"/>
            <a:ext cx="88250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NPS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 u="sng">
                <a:solidFill>
                  <a:srgbClr val="000000"/>
                </a:solidFill>
                <a:uFillTx/>
                <a:latin typeface="Calibri"/>
              </a:rPr>
              <a:t>http://comunidades.mda.gov.br</a:t>
            </a:r>
            <a:r>
              <a:rPr b="0" lang="pt-BR" sz="4000" spc="-1" strike="noStrike" u="sng">
                <a:solidFill>
                  <a:srgbClr val="ccccff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Secretaria Executiva – (61) 2020 – 098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planosociobio@mda.gov.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iz Rebelatto</dc:creator>
  <dc:description/>
  <dc:language>en-US</dc:language>
  <cp:lastModifiedBy>André</cp:lastModifiedBy>
  <dcterms:modified xsi:type="dcterms:W3CDTF">2010-06-16T12:40:37Z</dcterms:modified>
  <cp:revision>44</cp:revision>
  <dc:subject/>
  <dc:title>Plano Nacional para Promoção das Cadeias de Produtos da Sociobiodiversidade: Agregação de Valor e Consolidação de Mercados Sustent´v</dc:title>
</cp:coreProperties>
</file>